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F340-4852-4CB7-A990-AE0150732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5E54-0B4E-4F67-B211-476206E0D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A58D-9A20-4E60-A1EE-5F93F7478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0E691-7844-4B58-940E-EAFD41D6C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E0751-9983-48F6-8DA2-54423FA1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4622-DD41-4605-A549-8B083AEF3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04158-08FA-4F4B-A46D-5A038B71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0B074-3809-4647-81A8-BD7C566A5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7141-4304-49A2-B6A3-1E0F47448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7D6B-EF61-4809-92BF-579AC7A24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2FC2A-8C25-4C40-BB62-AD5F12F0A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9DC-E5FD-490B-A93D-6E0AB0C15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F3CE-656A-4A34-9914-559DECA5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300EC-68BD-4BF6-A705-2352FEB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634F-9C9A-4331-80F0-A5D0D941A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5B258-4F1A-4434-90CA-8004CFA97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24C70-5B0C-4ADD-8497-FC3147EDD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C3769-C0A0-4F85-8FFE-C32B2E7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7D4F-9070-4B97-BB67-175E36937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34F2-EDB9-4BA2-9BBA-23B4B91328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EC7F-AC9A-496D-845D-E18E9FF8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699-0812-43D6-BA67-7B934BD2C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DE89-13DA-4BB8-A156-33C394E87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80D1-EA53-4047-A8A1-093297F4D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9B46E-B587-4F13-9A99-A5A1316D12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6C28-A6AB-4E9D-89B0-ED8152F2CA9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Как сберечь свое здоровье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Виды кровотечений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апиллярноетемно-красный цвет крови, истекание крови небольшой струйкой,  редко угрожает жизни и здоровью пострадавшего человека прекращается самостоятельно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ртериальное- пульсирующее струйное истечение крови из раны, цвет крови имеет ярко-алый оттенок. Опасенн для жизни пострадавшего, т.к. стремительно приводит к наступлению полного обескровливания организма. 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нозное-медленное, но непрерывное истекание крови из раны. Кровь имеет темно-красный цвет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&amp;Vcy;&amp;icy;&amp;dcy;&amp;ycy; &amp;kcy;&amp;rcy;&amp;ocy;&amp;vcy;&amp;ocy;&amp;tcy;&amp;iecy;&amp;chcy;&amp;iecy;&amp;ncy;&amp;icy;&amp;jcy;"/>
          <p:cNvPicPr/>
          <p:nvPr/>
        </p:nvPicPr>
        <p:blipFill>
          <a:blip r:embed="rId1"/>
          <a:stretch/>
        </p:blipFill>
        <p:spPr>
          <a:xfrm>
            <a:off x="6516720" y="189000"/>
            <a:ext cx="2286000" cy="187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Меры оказания первой помощи при кровотечения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енозном кровотечении значительной силы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еобходимо срочно пережать поврежденный сосуд с помощью любого подручного средства (можно даже при помощи пальц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случае артериального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ложить жгут( не более чем на 2 часа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 всех видах кровотеч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Давящая стерильная повязка, холо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8" name="" descr="&amp;Pcy;&amp;iecy;&amp;rcy;&amp;vcy;&amp;acy;&amp;yacy; &amp;pcy;&amp;ocy;&amp;mcy;&amp;ocy;&amp;shchcy;&amp;softcy; &amp;pcy;&amp;rcy;&amp;icy; &amp;kcy;&amp;rcy;&amp;ocy;&amp;vcy;&amp;ocy;&amp;tcy;&amp;iecy;&amp;chcy;&amp;iecy;&amp;ncy;&amp;icy;&amp;icy;"/>
          <p:cNvPicPr/>
          <p:nvPr/>
        </p:nvPicPr>
        <p:blipFill>
          <a:blip r:embed="rId1"/>
          <a:stretch/>
        </p:blipFill>
        <p:spPr>
          <a:xfrm>
            <a:off x="6372360" y="3500280"/>
            <a:ext cx="228600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епловой и солнечный удар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Легкая степень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щая слабост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оловная боль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ошнот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чащения пульса и дыха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ение зрачк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Меры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вынести из зоны перегревания, оказать помощь (см. раздел "Доврачебная помощь")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      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Тяжелая форм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теплового удара развивается внезапно. Лицо краснеет, позже бледно-цианотичное, потеря сознания, повышение температура тела до 41 - 42 С, случаи внезапной смерти. Летальность 20 - 30%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      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Признаки теплового и солнечного ударов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окруж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оловная боль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чащенное сердцебиение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тошнот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холодный пот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краснение кожных покровов лица;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упадок сил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СРОЧНО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Устранить тепловое воздейств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далить пострадавшего из зоны перегревания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уложить на открытой площадке в тен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дыхание паров нашатырного спирта с ватк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вободить от верхней одежды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мачивание лица холодной водой, похлопывание по груди мокрым полотенцем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ожить на голову пузырь с холодной водой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частое опахивание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ызвать бригаду скорой помощ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227640" y="0"/>
            <a:ext cx="2916360" cy="226692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7022160" y="2924280"/>
            <a:ext cx="267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Доврачебная помощ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6320" y="476280"/>
            <a:ext cx="49903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Доврачебная помощ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32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      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обморожен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изнаки и симптомы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теря чувствительност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щущение покалывания или пощипыва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беление кож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1 степень обморожени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олдыр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2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темнение и отмирание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— 3 степень обморожения (видно только после отогревания, возможно проявление через 6-12 часов)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го НЕ делать при обморожен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" descr="&amp;Ocy;&amp;bcy;&amp;mcy;&amp;ocy;&amp;rcy;&amp;ocy;&amp;zhcy;&amp;iecy;&amp;ncy;&amp;icy;&amp;iecy; &amp;khcy;&amp;ocy;&amp;lcy;&amp;ocy;&amp;dcy;"/>
          <p:cNvPicPr/>
          <p:nvPr/>
        </p:nvPicPr>
        <p:blipFill>
          <a:blip r:embed="rId1"/>
          <a:stretch/>
        </p:blipFill>
        <p:spPr>
          <a:xfrm>
            <a:off x="7236000" y="260280"/>
            <a:ext cx="1485720" cy="190512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&amp;Pcy;&amp;iecy;&amp;rcy;&amp;vcy;&amp;acy;&amp;yacy; &amp;pcy;&amp;ocy;&amp;mcy;&amp;ocy;&amp;shchcy;&amp;softcy; &amp;pcy;&amp;rcy;&amp;icy; &amp;ocy;&amp;scy;&amp;tcy;&amp;rcy;&amp;ocy;&amp;jcy; &amp;bcy;&amp;ocy;&amp;lcy;&amp;icy; &amp;vcy; &amp;ocy;&amp;bcy;&amp;lcy;&amp;acy;&amp;scy;&amp;tcy;&amp;icy; &amp;scy;&amp;iecy;&amp;rcy;&amp;dcy;&amp;tscy;&amp;acy;"/>
          <p:cNvPicPr/>
          <p:nvPr/>
        </p:nvPicPr>
        <p:blipFill>
          <a:blip r:embed="rId2"/>
          <a:stretch/>
        </p:blipFill>
        <p:spPr>
          <a:xfrm>
            <a:off x="0" y="4941720"/>
            <a:ext cx="205092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Первая помощь при обморожении 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убра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 холода (на морозе растирать и греть бесполезно и опасно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закрыть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ухой повязкой (для уменьшения скорости отогревания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медленн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согревание в помещени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обильное теплое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и сладкое питье (согреваем изнутри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Нельзя при обморожении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гнорировать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растирать (это приводит к омертвению кожи и появлению белых пятен на кож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огревать резко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ить спиртно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Трав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ломы-это нарушение целостности кост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иды переломов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крыты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"/>
          <p:cNvSpPr/>
          <p:nvPr/>
        </p:nvSpPr>
        <p:spPr>
          <a:xfrm>
            <a:off x="7020000" y="24210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003640" y="3068640"/>
            <a:ext cx="3515040" cy="34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ервая помощь при переломах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беспечение спокойного и наиболее удобного положения для поврежденной конечности, что достигается полной ее неподвижность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риложить холод (резиновый пузырь со льдом или холодной водой, холодные примочки и т.п.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Наложить шину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Отправить в медицинское учреждение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2T09:26:04Z</dcterms:created>
  <dc:creator>user</dc:creator>
  <dc:description/>
  <dc:language>en-US</dc:language>
  <cp:lastModifiedBy>user</cp:lastModifiedBy>
  <dcterms:modified xsi:type="dcterms:W3CDTF">2013-04-23T07:40:51Z</dcterms:modified>
  <cp:revision>9</cp:revision>
  <dc:subject/>
  <dc:title>Как сберечь свое здоровье.</dc:title>
</cp:coreProperties>
</file>